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5E2-FFDE-4662-B8AC-381E795A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D77-FA34-4192-BCEB-78DB8812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D8D-EF82-4D9E-8CCC-A7E7B683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763-D7B3-4989-AE60-69C2E0CD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E23-D109-4C8A-95D5-E00811B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E80-647C-4B56-91BD-734C6C47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6E5-7050-4313-A2F2-5EE6DE43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AB3-382E-45C8-A5BA-18E1353D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86D-9DB1-4BA9-AC62-F82CC61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BFA-CF56-4044-8D3F-12CC931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B9A-269F-4A3A-BF8E-DF5AE56A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220-CA40-44EC-95FB-4A14850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7328-DEBD-4191-B166-AD73A24B7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8080" y="1066680"/>
            <a:ext cx="556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ction 4: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mplex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172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 all quadratics have real-number solutions.  For instance,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-1 has no real-number solutions because the square of any real number x is neve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5181480"/>
            <a:ext cx="6858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overcome this problem, mathematicians created an expand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e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6705720"/>
            <a:ext cx="6324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imaginary unit i, defined 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 =√-1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ot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= -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SQUARE ROOT OF A NEGATIVE NUMB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80880" y="19810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If r is a positive real number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492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refo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3200400" y="2057400"/>
                <a:ext cx="33526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</m:e>
                    </m:rad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371600" y="3005280"/>
                <a:ext cx="28195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</m:e>
                    </m:rad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17440" y="4792680"/>
                <a:ext cx="32990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905120" y="6019920"/>
                <a:ext cx="437832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ING A QUADRATIC EQ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10 = -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11 = -3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617120" y="762120"/>
            <a:ext cx="354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33520" y="685800"/>
            <a:ext cx="5867280" cy="7162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05320" y="4876920"/>
            <a:ext cx="2895480" cy="2971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33520" y="685800"/>
            <a:ext cx="2971800" cy="7162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45040" y="1523880"/>
            <a:ext cx="17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049640" y="1371600"/>
            <a:ext cx="186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049640" y="4876920"/>
            <a:ext cx="186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93000" y="3429000"/>
            <a:ext cx="1279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738600" y="3429000"/>
            <a:ext cx="94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+5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881600" y="4038480"/>
            <a:ext cx="75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-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39520" y="3124080"/>
            <a:ext cx="86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2-7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038480" y="220968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+bi, b≠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038480" y="609588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+bi, b≠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3661560" y="6705720"/>
            <a:ext cx="56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4956480" y="670572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 complex number written in standard form is a number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a + b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where a and b are real numbers.  The number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is the real part of the complex number, and the number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bi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is the imaginary part. 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ADDING AND SUBTRACTING  COMPLEX NUMB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9810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rite your answer in standard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819520"/>
            <a:ext cx="68580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4 – 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+ (3 + 2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7+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7 – 5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– (1 + 5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6-10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6 – (-2 + 9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+ (-5 + 4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3-5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ULTIPLYING COMPLEX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828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4 – i)(3 + 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4114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7 – 5i)(1 – 5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324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3 (-2 + 9i)(-8 + 4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54680" y="2438280"/>
            <a:ext cx="318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+8i-3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-2i</a:t>
            </a:r>
            <a:r>
              <a:rPr b="0" lang="nn-NO" sz="3000" spc="-1" strike="noStrike" baseline="30000">
                <a:solidFill>
                  <a:srgbClr val="00b0f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-482400" y="3200400"/>
            <a:ext cx="309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5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-2(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733920" y="3200400"/>
            <a:ext cx="1536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5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=14+5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41400" y="4876920"/>
            <a:ext cx="34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35i-5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25i</a:t>
            </a:r>
            <a:r>
              <a:rPr b="0" lang="nn-NO" sz="3000" spc="-1" strike="noStrike" baseline="30000">
                <a:solidFill>
                  <a:srgbClr val="00b0f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3680" y="5638680"/>
            <a:ext cx="33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40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25(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3454920" y="5105520"/>
            <a:ext cx="264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40i</a:t>
            </a:r>
            <a:r>
              <a:rPr b="0" lang="nn-NO" sz="3000" spc="-1" strike="noStrike">
                <a:solidFill>
                  <a:srgbClr val="0070c0"/>
                </a:solidFill>
                <a:latin typeface="Comic Sans MS"/>
              </a:rPr>
              <a:t>-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=-18-40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71640" y="6934320"/>
            <a:ext cx="383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(-6+27i</a:t>
            </a:r>
            <a:r>
              <a:rPr b="0" lang="nn-NO" sz="2800" spc="-1" strike="noStrike">
                <a:solidFill>
                  <a:srgbClr val="000000"/>
                </a:solidFill>
                <a:latin typeface="Comic Sans MS"/>
              </a:rPr>
              <a:t> )(-8 + 4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2240" y="7620120"/>
            <a:ext cx="427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24i-216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108i</a:t>
            </a:r>
            <a:r>
              <a:rPr b="0" lang="nn-NO" sz="3000" spc="-1" strike="noStrike" baseline="30000">
                <a:solidFill>
                  <a:srgbClr val="00b0f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753720" y="7315200"/>
            <a:ext cx="329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240i</a:t>
            </a:r>
            <a:r>
              <a:rPr b="0" lang="nn-NO" sz="3000" spc="-1" strike="noStrike">
                <a:solidFill>
                  <a:srgbClr val="0070c0"/>
                </a:solidFill>
                <a:latin typeface="Comic Sans MS"/>
              </a:rPr>
              <a:t>-1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=-60-240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21:31:41Z</dcterms:created>
  <dc:creator>sraja</dc:creator>
  <dc:description/>
  <dc:language>en-US</dc:language>
  <cp:lastModifiedBy>sraja</cp:lastModifiedBy>
  <dcterms:modified xsi:type="dcterms:W3CDTF">2010-12-06T17:50:14Z</dcterms:modified>
  <cp:revision>19</cp:revision>
  <dc:subject/>
  <dc:title>VOCABULARY</dc:title>
</cp:coreProperties>
</file>